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B21C-202C-4BCC-B059-6E9186EAB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F588-80A8-4E75-B006-D2E0488B9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B062-B019-4ECD-B473-E2B9176C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FE44-114B-4D59-817C-63B5ADD4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D735-4DFA-4138-9C9C-528BEF2F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3BD-DB43-4D70-81EE-F40A36E0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451D-F860-4730-BDA7-F032090F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BFA5-18FA-4E9B-944F-02E10ED90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64CA-1066-478D-BDC3-6D6EDCAD8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7628-9843-4A75-B9C3-42C99351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98E-ED8D-4A52-964D-BD4774A97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A0A7-6ED2-4843-B077-3D251297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EAB-72E3-47B6-88F0-1B29B3412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A6B6-D3B5-483B-85E1-A17F12E6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3932-4B7C-4CF2-B4D4-5E40085C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7C49-6D5F-4B7A-91F1-25D774A8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6367-2E6E-4369-A082-6A42EB04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7934-1B4F-4391-B2A7-D5873275F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0683-22BD-40FF-BA6D-F029C7262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7958-9E10-49CB-A9A1-0A3487B86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004E-F9EF-47D9-85EC-B61D79AB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B1EE-ECBE-430E-B8F1-563A87D28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2D22-E17C-4571-A547-0C8E6E34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C774-34C2-4A78-A9B4-9C7430CFE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E174-6490-457B-876C-071FFE7E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6048-BC9C-4C1C-BE3C-C514E259E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467-A9B5-4CB8-B933-710447EF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940-599C-4D87-81B3-7B5974DB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090-FD9E-4675-8FB5-A9E7E91B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BF6-7F2D-4234-A031-890C3922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850-1EBF-4377-A88D-D6B82943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DD3-4825-42F7-956F-387A5B3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565-C26B-469F-8942-60F69136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093-67C2-47EA-9366-E8AB8D6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22F-6837-4FFE-B4FC-94A6270C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C9E-6C78-4F5C-8A88-849389C1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086-E2AF-4D3C-8580-4E89DE1A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7CD-C90B-4C08-A674-568C8E7B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A199-7F0A-475A-A313-9156729B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marca.sedimax.com/ekmps/shops/sedimax/images/vh_75505_l.jpg&amp;imgrefurl=http://www.marca.sedimax.com/index.asp%3Ffunction%3DDISPLAYPRODUCT%26productid%3D5&amp;h=230&amp;w=230&amp;sz=28&amp;tbnid=VMQeQW1LxHvgtM:&amp;tbnh=103&amp;tbnw=103&amp;hl=es&amp;start=2&amp;prev=/images%3Fq%3Dcaja%2Bde%2Bchocolates%26svnum%3D10%26hl%3Des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valonwine.com/white-wine-glass.jpg&amp;imgrefurl=http://avalonwine.com/White-Wine-article.php&amp;h=285&amp;w=148&amp;sz=8&amp;tbnid=CMYwocfejw5ztM:&amp;tbnh=110&amp;tbnw=57&amp;hl=en&amp;start=7&amp;prev=/images%3Fq%3Dwine%2Bglass%26svnum%3D10%26hl%3Den%26lr%3Dlang_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rysbeegarden.com/catalog/large_photos/014.jpg&amp;imgrefurl=http://www.marysbeegarden.com/catalog/beejar.html&amp;h=185&amp;w=149&amp;sz=7&amp;tbnid=45fntUriEvFfMM:&amp;tbnh=96&amp;tbnw=77&amp;hl=en&amp;start=5&amp;prev=/images%3Fq%3Djar%2Bof%2Bhoney%26svnum%3D10%26hl%3Den%26lr%3Dlang_en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servicios.laverdad.es/gastronomia/fotos/curiosidad130405.jpg&amp;imgrefurl=http://servicios.laverdad.es/gastronomia/curiosidades_almirez130405.html&amp;h=190&amp;w=170&amp;sz=12&amp;tbnid=syty41TkiKwegM:&amp;tbnh=97&amp;tbnw=86&amp;hl=es&amp;start=4&amp;prev=/images%3Fq%3Dbolsa%2Bde%2Bpatatas%2Bfritas%26svnum%3D10%26hl%3Des%26lr%3D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mg.timeinc.net/realsimple/images/RS_KITCHEN_carve_ham_04.jpg&amp;imgrefurl=http://food.aol.com/food/channel/knowhow/equipmentessentials/contentgallery/0,18852,1028152-4,00.html%3Fpagenum%3D4&amp;h=195&amp;w=188&amp;sz=12&amp;tbnid=3KoPZLPLlMz3yM:&amp;tbnh=98&amp;tbnw=94&amp;hl=en&amp;start=52&amp;prev=/images%3Fq%3Dslice%2Bof%2Bham%26start%3D40%26svnum%3D10%26hl%3Den%26lr%3Dlang_en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o.uk/imgres?imgurl=http://img.timeinc.net/realsimple/images/RS_KITCHEN_carve_ham_04.jpg&amp;imgrefurl=http://food.aol.com/food/channel/knowhow/equipmentessentials/contentgallery/0,18852,1028152-4,00.html%3Fpagenum%3D4&amp;h=195&amp;w=188&amp;sz=12&amp;tbnid=3KoPZLPLlMz3yM:&amp;tbnh=98&amp;tbnw=94&amp;hl=en&amp;start=52&amp;prev=/images%3Fq%3Dslice%2Bof%2Bham%26start%3D40%26svnum%3D10%26hl%3Den%26lr%3Dlang_en%26sa%3D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es/imgres?imgurl=http://servicios.laverdad.es/gastronomia/fotos/curiosidad130405.jpg&amp;imgrefurl=http://servicios.laverdad.es/gastronomia/curiosidades_almirez130405.html&amp;h=190&amp;w=170&amp;sz=12&amp;tbnid=syty41TkiKwegM:&amp;tbnh=97&amp;tbnw=86&amp;hl=es&amp;start=4&amp;prev=/images%3Fq%3Dbolsa%2Bde%2Bpatatas%2Bfritas%26svnum%3D10%26hl%3Des%26lr%3D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.uk/imgres?imgurl=http://www.marysbeegarden.com/catalog/large_photos/014.jpg&amp;imgrefurl=http://www.marysbeegarden.com/catalog/beejar.html&amp;h=185&amp;w=149&amp;sz=7&amp;tbnid=45fntUriEvFfMM:&amp;tbnh=96&amp;tbnw=77&amp;hl=en&amp;start=5&amp;prev=/images%3Fq%3Djar%2Bof%2Bhoney%26svnum%3D10%26hl%3Den%26lr%3Dlang_en%26sa%3DN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.uk/imgres?imgurl=http://avalonwine.com/white-wine-glass.jpg&amp;imgrefurl=http://avalonwine.com/White-Wine-article.php&amp;h=285&amp;w=148&amp;sz=8&amp;tbnid=CMYwocfejw5ztM:&amp;tbnh=110&amp;tbnw=57&amp;hl=en&amp;start=7&amp;prev=/images%3Fq%3Dwine%2Bglass%26svnum%3D10%26hl%3Den%26lr%3Dlang_en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images.google.es/imgres?imgurl=http://www.marca.sedimax.com/ekmps/shops/sedimax/images/vh_75505_l.jpg&amp;imgrefurl=http://www.marca.sedimax.com/index.asp%3Ffunction%3DDISPLAYPRODUCT%26productid%3D5&amp;h=230&amp;w=230&amp;sz=28&amp;tbnid=VMQeQW1LxHvgtM:&amp;tbnh=103&amp;tbnw=103&amp;hl=es&amp;start=2&amp;prev=/images%3Fq%3Dcaja%2Bde%2Bchocolates%26svnum%3D10%26hl%3Des%26lr%3D" TargetMode="External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2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500040"/>
            <a:ext cx="750096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parejas, decide lo que signific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caram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perrito ca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batido de f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salchi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calam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caj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vh_75505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282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vaso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white-wine-gla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205000"/>
            <a:ext cx="2167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lat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14526"/>
          <p:cNvPicPr/>
          <p:nvPr/>
        </p:nvPicPr>
        <p:blipFill>
          <a:blip r:embed="rId1"/>
          <a:stretch/>
        </p:blipFill>
        <p:spPr>
          <a:xfrm>
            <a:off x="3708360" y="2276640"/>
            <a:ext cx="188748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bote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2276640"/>
            <a:ext cx="2774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tubo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marties"/>
          <p:cNvPicPr/>
          <p:nvPr/>
        </p:nvPicPr>
        <p:blipFill>
          <a:blip r:embed="rId1"/>
          <a:stretch/>
        </p:blipFill>
        <p:spPr>
          <a:xfrm>
            <a:off x="2700360" y="2133720"/>
            <a:ext cx="29941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bols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uriosidad1304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060640"/>
            <a:ext cx="3011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trozo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RS_KITCHEN_carve_ham_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989000"/>
            <a:ext cx="2973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docen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doc26b"/>
          <p:cNvPicPr/>
          <p:nvPr/>
        </p:nvPicPr>
        <p:blipFill>
          <a:blip r:embed="rId1"/>
          <a:stretch/>
        </p:blipFill>
        <p:spPr>
          <a:xfrm>
            <a:off x="1547640" y="1773360"/>
            <a:ext cx="61470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doc26b"/>
          <p:cNvPicPr/>
          <p:nvPr/>
        </p:nvPicPr>
        <p:blipFill>
          <a:blip r:embed="rId1"/>
          <a:stretch/>
        </p:blipFill>
        <p:spPr>
          <a:xfrm>
            <a:off x="6885000" y="4292640"/>
            <a:ext cx="2259000" cy="150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RS_KITCHEN_carve_ham_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407664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uriosidad1304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4076640"/>
            <a:ext cx="153828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smarties"/>
          <p:cNvPicPr/>
          <p:nvPr/>
        </p:nvPicPr>
        <p:blipFill>
          <a:blip r:embed="rId6"/>
          <a:stretch/>
        </p:blipFill>
        <p:spPr>
          <a:xfrm>
            <a:off x="1908000" y="4076640"/>
            <a:ext cx="1565280" cy="165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01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3860640"/>
            <a:ext cx="1503360" cy="187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14526"/>
          <p:cNvPicPr/>
          <p:nvPr/>
        </p:nvPicPr>
        <p:blipFill>
          <a:blip r:embed="rId9"/>
          <a:stretch/>
        </p:blipFill>
        <p:spPr>
          <a:xfrm>
            <a:off x="7451640" y="2421000"/>
            <a:ext cx="136692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white-wine-glas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84720" y="2421000"/>
            <a:ext cx="1167120" cy="151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vh_75505_l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51280" y="2276640"/>
            <a:ext cx="1452600" cy="151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botella_leche"/>
          <p:cNvPicPr/>
          <p:nvPr/>
        </p:nvPicPr>
        <p:blipFill>
          <a:blip r:embed="rId14"/>
          <a:stretch/>
        </p:blipFill>
        <p:spPr>
          <a:xfrm>
            <a:off x="2124000" y="2060640"/>
            <a:ext cx="1387440" cy="186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180px-botella_de_coca-cola"/>
          <p:cNvPicPr/>
          <p:nvPr/>
        </p:nvPicPr>
        <p:blipFill>
          <a:blip r:embed="rId15"/>
          <a:stretch/>
        </p:blipFill>
        <p:spPr>
          <a:xfrm>
            <a:off x="468360" y="2060640"/>
            <a:ext cx="127800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alamares_tapas"/>
          <p:cNvPicPr/>
          <p:nvPr/>
        </p:nvPicPr>
        <p:blipFill>
          <a:blip r:embed="rId16"/>
          <a:stretch/>
        </p:blipFill>
        <p:spPr>
          <a:xfrm>
            <a:off x="6516720" y="189000"/>
            <a:ext cx="2376360" cy="151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alamares_tapas"/>
          <p:cNvPicPr/>
          <p:nvPr/>
        </p:nvPicPr>
        <p:blipFill>
          <a:blip r:embed="rId17"/>
          <a:stretch/>
        </p:blipFill>
        <p:spPr>
          <a:xfrm>
            <a:off x="4716360" y="620640"/>
            <a:ext cx="1728720" cy="110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Calamares_tapas"/>
          <p:cNvPicPr/>
          <p:nvPr/>
        </p:nvPicPr>
        <p:blipFill>
          <a:blip r:embed="rId18"/>
          <a:stretch/>
        </p:blipFill>
        <p:spPr>
          <a:xfrm>
            <a:off x="3564000" y="1052640"/>
            <a:ext cx="1008000" cy="64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1552954013_24bb99b38c"/>
          <p:cNvPicPr/>
          <p:nvPr/>
        </p:nvPicPr>
        <p:blipFill>
          <a:blip r:embed="rId19"/>
          <a:stretch/>
        </p:blipFill>
        <p:spPr>
          <a:xfrm>
            <a:off x="1763640" y="692280"/>
            <a:ext cx="1728720" cy="1054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SW-001_200x200"/>
          <p:cNvPicPr/>
          <p:nvPr/>
        </p:nvPicPr>
        <p:blipFill>
          <a:blip r:embed="rId20"/>
          <a:stretch/>
        </p:blipFill>
        <p:spPr>
          <a:xfrm>
            <a:off x="0" y="0"/>
            <a:ext cx="1692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0" descr="doc26b"/>
          <p:cNvPicPr/>
          <p:nvPr/>
        </p:nvPicPr>
        <p:blipFill>
          <a:blip r:embed="rId1"/>
          <a:stretch/>
        </p:blipFill>
        <p:spPr>
          <a:xfrm>
            <a:off x="2411280" y="1700280"/>
            <a:ext cx="4896000" cy="32637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"/>
          <p:cNvSpPr/>
          <p:nvPr/>
        </p:nvSpPr>
        <p:spPr>
          <a:xfrm>
            <a:off x="3851280" y="0"/>
            <a:ext cx="5292720" cy="1484280"/>
          </a:xfrm>
          <a:prstGeom prst="pie">
            <a:avLst/>
          </a:pr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ubL"/>
          <p:cNvSpPr/>
          <p:nvPr/>
        </p:nvSpPr>
        <p:spPr>
          <a:xfrm>
            <a:off x="2843280" y="4005360"/>
            <a:ext cx="2592360" cy="2852640"/>
          </a:xfrm>
          <a:prstGeom prst="pi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6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8" descr="MCj03499950000[1]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9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08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08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how to describe quantiti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write descriptions of various quanti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listen to requests for ite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0" descr="RS_KITCHEN_carve_ham_04"/>
          <p:cNvPicPr/>
          <p:nvPr/>
        </p:nvPicPr>
        <p:blipFill>
          <a:blip r:embed="rId1"/>
          <a:stretch/>
        </p:blipFill>
        <p:spPr>
          <a:xfrm>
            <a:off x="755640" y="404640"/>
            <a:ext cx="297324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851280" y="0"/>
            <a:ext cx="5292720" cy="1484280"/>
          </a:xfrm>
          <a:prstGeom prst="pie">
            <a:avLst/>
          </a:pr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ubL"/>
          <p:cNvSpPr/>
          <p:nvPr/>
        </p:nvSpPr>
        <p:spPr>
          <a:xfrm>
            <a:off x="2843280" y="4005360"/>
            <a:ext cx="2592360" cy="2852640"/>
          </a:xfrm>
          <a:prstGeom prst="pi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6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8" descr="MCj03499950000[1]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9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08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08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0" descr="14526"/>
          <p:cNvPicPr/>
          <p:nvPr/>
        </p:nvPicPr>
        <p:blipFill>
          <a:blip r:embed="rId1"/>
          <a:stretch/>
        </p:blipFill>
        <p:spPr>
          <a:xfrm>
            <a:off x="6516720" y="3141720"/>
            <a:ext cx="188748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2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851280" y="0"/>
            <a:ext cx="5292720" cy="1484280"/>
          </a:xfrm>
          <a:prstGeom prst="pie">
            <a:avLst/>
          </a:pr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ubL"/>
          <p:cNvSpPr/>
          <p:nvPr/>
        </p:nvSpPr>
        <p:spPr>
          <a:xfrm>
            <a:off x="2843280" y="4005360"/>
            <a:ext cx="2592360" cy="2852640"/>
          </a:xfrm>
          <a:prstGeom prst="pi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6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8" descr="MCj03499950000[1]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9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1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08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08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1" descr="SW-001_200x200"/>
          <p:cNvPicPr/>
          <p:nvPr/>
        </p:nvPicPr>
        <p:blipFill>
          <a:blip r:embed="rId1"/>
          <a:stretch/>
        </p:blipFill>
        <p:spPr>
          <a:xfrm>
            <a:off x="1979640" y="5048280"/>
            <a:ext cx="1871640" cy="1809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0" descr="Calamares_tapas"/>
          <p:cNvPicPr/>
          <p:nvPr/>
        </p:nvPicPr>
        <p:blipFill>
          <a:blip r:embed="rId2"/>
          <a:stretch/>
        </p:blipFill>
        <p:spPr>
          <a:xfrm>
            <a:off x="0" y="0"/>
            <a:ext cx="6095880" cy="38876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2"/>
          <p:cNvSpPr/>
          <p:nvPr/>
        </p:nvSpPr>
        <p:spPr>
          <a:xfrm>
            <a:off x="3851280" y="0"/>
            <a:ext cx="5292720" cy="1484280"/>
          </a:xfrm>
          <a:prstGeom prst="pie">
            <a:avLst/>
          </a:pr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ubL"/>
          <p:cNvSpPr/>
          <p:nvPr/>
        </p:nvSpPr>
        <p:spPr>
          <a:xfrm>
            <a:off x="2843280" y="4005360"/>
            <a:ext cx="2592360" cy="2852640"/>
          </a:xfrm>
          <a:prstGeom prst="pi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5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6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8" descr="MCj03499950000[1]"/>
          <p:cNvPicPr/>
          <p:nvPr/>
        </p:nvPicPr>
        <p:blipFill>
          <a:blip r:embed="rId4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9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08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8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900000" y="620640"/>
            <a:ext cx="74883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litro de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botella de lim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barra de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tubo de crema bronce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bolsa de patatas fr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lata de sardin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bote de m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trozo de t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paquete de gal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caja de t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755640" y="765000"/>
          <a:ext cx="7848720" cy="4330800"/>
        </p:xfrm>
        <a:graphic>
          <a:graphicData uri="http://schemas.openxmlformats.org/drawingml/2006/table">
            <a:tbl>
              <a:tblPr/>
              <a:tblGrid>
                <a:gridCol w="865080"/>
                <a:gridCol w="2225880"/>
                <a:gridCol w="2795400"/>
                <a:gridCol w="196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f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45"/>
          <p:cNvSpPr/>
          <p:nvPr/>
        </p:nvSpPr>
        <p:spPr>
          <a:xfrm>
            <a:off x="1692360" y="1773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ott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3995640" y="1844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mon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9"/>
          <p:cNvSpPr/>
          <p:nvPr/>
        </p:nvSpPr>
        <p:spPr>
          <a:xfrm>
            <a:off x="7128000" y="1773360"/>
            <a:ext cx="14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0"/>
          <p:cNvSpPr/>
          <p:nvPr/>
        </p:nvSpPr>
        <p:spPr>
          <a:xfrm>
            <a:off x="1763640" y="2565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 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1"/>
          <p:cNvSpPr/>
          <p:nvPr/>
        </p:nvSpPr>
        <p:spPr>
          <a:xfrm>
            <a:off x="3995640" y="2565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icken s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6877080" y="2492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1763640" y="3213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 half-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3995640" y="3213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ot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5"/>
          <p:cNvSpPr/>
          <p:nvPr/>
        </p:nvSpPr>
        <p:spPr>
          <a:xfrm>
            <a:off x="6804000" y="3141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6"/>
          <p:cNvSpPr/>
          <p:nvPr/>
        </p:nvSpPr>
        <p:spPr>
          <a:xfrm>
            <a:off x="1835280" y="38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ig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7"/>
          <p:cNvSpPr/>
          <p:nvPr/>
        </p:nvSpPr>
        <p:spPr>
          <a:xfrm>
            <a:off x="3995640" y="371628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xed green 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6877080" y="378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9"/>
          <p:cNvSpPr/>
          <p:nvPr/>
        </p:nvSpPr>
        <p:spPr>
          <a:xfrm>
            <a:off x="1763640" y="4508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0"/>
          <p:cNvSpPr/>
          <p:nvPr/>
        </p:nvSpPr>
        <p:spPr>
          <a:xfrm>
            <a:off x="3995640" y="4508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1"/>
          <p:cNvSpPr/>
          <p:nvPr/>
        </p:nvSpPr>
        <p:spPr>
          <a:xfrm>
            <a:off x="6877080" y="443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.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paquete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W-001_200x200"/>
          <p:cNvPicPr/>
          <p:nvPr/>
        </p:nvPicPr>
        <p:blipFill>
          <a:blip r:embed="rId1"/>
          <a:stretch/>
        </p:blipFill>
        <p:spPr>
          <a:xfrm>
            <a:off x="2340000" y="1916280"/>
            <a:ext cx="388764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barra d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552954013_24bb99b38c"/>
          <p:cNvPicPr/>
          <p:nvPr/>
        </p:nvPicPr>
        <p:blipFill>
          <a:blip r:embed="rId1"/>
          <a:stretch/>
        </p:blipFill>
        <p:spPr>
          <a:xfrm>
            <a:off x="1979640" y="2349360"/>
            <a:ext cx="50403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a tapas d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alamares_tapas"/>
          <p:cNvPicPr/>
          <p:nvPr/>
        </p:nvPicPr>
        <p:blipFill>
          <a:blip r:embed="rId1"/>
          <a:stretch/>
        </p:blipFill>
        <p:spPr>
          <a:xfrm>
            <a:off x="3276720" y="2205000"/>
            <a:ext cx="19429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71640" y="5493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a media raci</a:t>
            </a:r>
            <a:r>
              <a:rPr b="1" lang="en-GB" sz="6000" spc="-1" strike="noStrike">
                <a:solidFill>
                  <a:srgbClr val="333399"/>
                </a:solidFill>
                <a:latin typeface="Arial"/>
                <a:ea typeface="Arial"/>
              </a:rPr>
              <a:t>ón d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alamares_tapas"/>
          <p:cNvPicPr/>
          <p:nvPr/>
        </p:nvPicPr>
        <p:blipFill>
          <a:blip r:embed="rId1"/>
          <a:stretch/>
        </p:blipFill>
        <p:spPr>
          <a:xfrm>
            <a:off x="2556000" y="3284640"/>
            <a:ext cx="36716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71640" y="549360"/>
            <a:ext cx="734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333399"/>
                </a:solidFill>
                <a:latin typeface="Arial"/>
              </a:rPr>
              <a:t>Una ración de…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alamares_tapas"/>
          <p:cNvPicPr/>
          <p:nvPr/>
        </p:nvPicPr>
        <p:blipFill>
          <a:blip r:embed="rId1"/>
          <a:stretch/>
        </p:blipFill>
        <p:spPr>
          <a:xfrm>
            <a:off x="1619280" y="2205000"/>
            <a:ext cx="6095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Una botella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180px-botella_de_coca-cola"/>
          <p:cNvPicPr/>
          <p:nvPr/>
        </p:nvPicPr>
        <p:blipFill>
          <a:blip r:embed="rId1"/>
          <a:stretch/>
        </p:blipFill>
        <p:spPr>
          <a:xfrm>
            <a:off x="3059280" y="2060640"/>
            <a:ext cx="2277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971640" y="54936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99"/>
                </a:solidFill>
                <a:latin typeface="Arial"/>
              </a:rPr>
              <a:t>Un litro 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botella_leche"/>
          <p:cNvPicPr/>
          <p:nvPr/>
        </p:nvPicPr>
        <p:blipFill>
          <a:blip r:embed="rId1"/>
          <a:stretch/>
        </p:blipFill>
        <p:spPr>
          <a:xfrm>
            <a:off x="3059280" y="1916280"/>
            <a:ext cx="2509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57:05Z</dcterms:created>
  <dc:creator>Owner1</dc:creator>
  <dc:description/>
  <dc:language>en-US</dc:language>
  <cp:lastModifiedBy>Chris</cp:lastModifiedBy>
  <dcterms:modified xsi:type="dcterms:W3CDTF">2009-03-23T10:54:11Z</dcterms:modified>
  <cp:revision>5</cp:revision>
  <dc:subject/>
  <dc:title>Slide 1</dc:title>
</cp:coreProperties>
</file>